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ee4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B1AD-640B-45AC-B753-B6F8812B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B6C-22AE-4677-802A-482281EE33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C1E-6117-495A-8104-AD61F1AC4D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5C7-C2D4-46AE-8B4B-9F66A1648B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5047-9727-4AEE-9A09-0CF1F1900A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214-3AD8-42A0-8F31-F10F2F8903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861-17B3-45A5-A84C-176CA1119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A980-CA1E-4D00-9F09-3ACA1D4D09DF}" type="slidenum">
              <a:rPr b="0" lang="fr-FR" sz="1200" spc="-1" strike="noStrike">
                <a:solidFill>
                  <a:srgbClr val="fbfbf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BD6-0DFF-419A-B27E-C6B176CFE4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380-4A20-4A09-83AF-0DE08E5B5D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9D4F-FC1C-4574-B9A3-CE97FA0B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FB04-CDDA-4164-B3BF-89950ED9DB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A4B9-4DAA-4350-B6F0-C167B8225F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c6b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ee4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18440" indent="-45252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2" marL="1467720" indent="-33624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3" marL="2091600" indent="-44928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4" marL="2655720" indent="-38952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5" marL="2655720" indent="-389520">
              <a:spcBef>
                <a:spcPts val="799"/>
              </a:spcBef>
              <a:buClr>
                <a:srgbClr val="fbfbf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6" marL="2655720" indent="-389520">
              <a:spcBef>
                <a:spcPts val="799"/>
              </a:spcBef>
              <a:buClr>
                <a:srgbClr val="fbfbf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’inadéquation des tests diagnostiques actuels de la maladie de Lyme et des maladies associées avec la diversité mondiale des micro-organismes en cause</a:t>
            </a:r>
            <a:endParaRPr b="1" lang="en-US" sz="24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1601280"/>
            <a:ext cx="8643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hristian  Perronn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bfbfb"/>
                </a:solidFill>
                <a:latin typeface="Arial"/>
              </a:rPr>
              <a:t>Département des Maladies infectieuse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Hôpital Universitaire Raymond Poincaré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Assistance Publique – Hôpitaux de Pari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Université de Versailles – St Quentin en Yveline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92 Garche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bfbfb"/>
                </a:solidFill>
                <a:latin typeface="Arial"/>
              </a:rPr>
              <a:t>Haut Conseil de la Santé Publique (HCSP),</a:t>
            </a: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 Pari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bfbfb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Sérologie, PCR, culture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49976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Assous  Med Mal Infect 2007 ; Aguero-Rosenfeld Infect Dis Clin N Am 2008 ; Remy Med Mal Infect 2007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ensibilité :                      Sérologie            PCR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      Culture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Erythema migrans                  20 à 50%         Peau 50 à 64%        50 à 88%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Formes précoces        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           70 à 90%         Sang 10 à 18%  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Neuroborréliose                     42 à 90%         LCR 5 à 38%           10 à 30%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Arthrites                                 60 à 100%       Liq. syn. 37 à 97%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Acrodermatite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chronique atrophiante             33 à 86%            60 à 90%              20 à 60%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Neuro-borréliose de Lyme chez l’enfant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5573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Bennet  Infection 2008  (Suède)</a:t>
            </a:r>
            <a:endParaRPr b="0" lang="en-US" sz="16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écrétion d’anticorps anti-</a:t>
            </a: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Borrelia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dans le liquide céphalo-rachidien : </a:t>
            </a: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71% des enfants 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érologie positive dans le sang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23% des enfants !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Sérologie ELISA : sensibilité variable selon le test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092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Marangoni  J Med Microbiol 2005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3 tests ELISA du commerce différent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ensibilité pour les mêmes sérums : 36,8% à 70,5%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De Marteno  Med Mal Infect 2007 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Comparaison de 14 kits ELISA pour le diagnostic de neuroborréliose 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ensibilité varie de 20,9 à 97,7%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Ang  Eur J Microbiol Infect Dis 2011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Comparaison de 8 tests ELISA et de 5 Western blots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Sensibilité des IgM et/ou IgG varie de 34 à 59% !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Sérologie de la maladie de Lyme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Aguero-Rosenfeld Infect Dis Clin N Am 2008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Le « diktat » de Boston (IDSA) :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ELISA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sonicat de la souche historique B31 de </a:t>
            </a:r>
            <a:r>
              <a:rPr b="0" i="1" lang="fr-FR" sz="1800" spc="-1" strike="noStrike">
                <a:solidFill>
                  <a:srgbClr val="fbfbfb"/>
                </a:solidFill>
                <a:latin typeface="Arial"/>
              </a:rPr>
              <a:t>Borrelia burgdorferi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Recommandations : test en 2 étapes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51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Première étape : ELISA  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51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Si positif, confirmation par Western blot (IgG et IgM)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Interdiction officielle de faire le Western blot si ELISA négatif !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Les recommandations de l’IDSA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En grande partie, non basées sur les preuv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bfbfb"/>
                </a:solidFill>
                <a:latin typeface="Arial"/>
              </a:rPr>
              <a:t>Lee &amp; Vielmayer</a:t>
            </a:r>
            <a:r>
              <a:rPr b="0" i="1" lang="fr-FR" sz="2400" spc="-1" strike="noStrike">
                <a:solidFill>
                  <a:srgbClr val="fbfbfb"/>
                </a:solidFill>
                <a:latin typeface="Arial"/>
              </a:rPr>
              <a:t>. Analysis of overall level of evidence behind Infectious Diseases Society of America practice guidelines</a:t>
            </a:r>
            <a:r>
              <a:rPr b="1" i="1" lang="fr-FR" sz="2400" spc="-1" strike="noStrike">
                <a:solidFill>
                  <a:srgbClr val="fbfbfb"/>
                </a:solidFill>
                <a:latin typeface="Arial"/>
              </a:rPr>
              <a:t>. Arch intern Med, 2011</a:t>
            </a:r>
            <a:r>
              <a:rPr b="0" i="1" lang="fr-FR" sz="2400" spc="-1" strike="noStrike">
                <a:solidFill>
                  <a:srgbClr val="fbfbfb"/>
                </a:solidFill>
                <a:latin typeface="Arial"/>
              </a:rPr>
              <a:t>, 171, 18-22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Avis d’expert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818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Tests diagnostiques de la maladie de Lyme</a:t>
            </a:r>
            <a:endParaRPr b="1" lang="en-US" sz="2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Aguero-Rosenfeld Infect Dis Clin N Am 2008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La précision des tests est impossible à mesurer par absence d’une référence pour étalonner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Clinique non fiabl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Culture ou amplification génique (PCR)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eu sensibl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947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Sensibilité des ELISA : mesurée chez des donneurs de sang en bonne santé </a:t>
            </a:r>
            <a:br>
              <a:rPr sz="2800"/>
            </a:b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(dans chaque région)</a:t>
            </a:r>
            <a:endParaRPr b="1" lang="en-US" sz="2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773360"/>
            <a:ext cx="827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fbfb"/>
                </a:solidFill>
                <a:latin typeface="Arial"/>
              </a:rPr>
              <a:t>European concerted action on Lyme borreliosis (EUCALB)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a valeur seuil du test </a:t>
            </a:r>
            <a:r>
              <a:rPr b="1" lang="fr-FR" sz="2400" spc="-1" strike="noStrike">
                <a:solidFill>
                  <a:srgbClr val="fbfbfb"/>
                </a:solidFill>
                <a:latin typeface="Arial"/>
              </a:rPr>
              <a:t>est choisie pour éviter d’avoir plus de 5% de donneurs de sang séropositifs pour le Lyme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fbfb"/>
                </a:solidFill>
                <a:latin typeface="Arial"/>
              </a:rPr>
              <a:t>Décision d’experts, pragmatique il y a 30 an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bfbfb"/>
                </a:solidFill>
                <a:latin typeface="Arial"/>
              </a:rPr>
              <a:t>Ce seuil devrait impérativement être revu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391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Sensibilité des ELISA :</a:t>
            </a:r>
            <a:br>
              <a:rPr sz="2400"/>
            </a:b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 confirmée sur une collection de sérums congelés</a:t>
            </a:r>
            <a:br>
              <a:rPr sz="2400"/>
            </a:b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IDSA / EUCALB</a:t>
            </a:r>
            <a:endParaRPr b="1" lang="en-US" sz="24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916280"/>
            <a:ext cx="827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Les sérums utilisés pour « vérifier » la valeur prédictive positive des tests contiennent des quantités élevées d’anticorps de malades typique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Cette méthode donne des sensibilitées artificielles supérieures à 90%. 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Calibration des tests sérologiques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1341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Grande variabilité des tests commerciaux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Beaucoup de tests utilisés il y a quelques années n’existent plu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es nouveaux tests se calibrent sur les plus anciens sans revoir les méthodes d’évaluation de la sensibilité et de la spécificité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Calibration des tests sérologiques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Absence de définition claire des populations de « malades » et de « témoins »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Grandes incertitudes sur les valeurs prédictives positives et négativ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24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Tiques : seringues vivantes échangeant du matériel génétique entre les espèces animales (ou humaine)</a:t>
            </a:r>
            <a:endParaRPr b="1" lang="en-US" sz="2400" spc="-1" strike="noStrike">
              <a:solidFill>
                <a:srgbClr val="f6ee46"/>
              </a:solidFill>
              <a:latin typeface="Arial"/>
            </a:endParaRPr>
          </a:p>
        </p:txBody>
      </p:sp>
      <p:pic>
        <p:nvPicPr>
          <p:cNvPr id="47" name="Picture 3" descr="diapo14_02_21"/>
          <p:cNvPicPr/>
          <p:nvPr/>
        </p:nvPicPr>
        <p:blipFill>
          <a:blip r:embed="rId1"/>
          <a:stretch/>
        </p:blipFill>
        <p:spPr>
          <a:xfrm>
            <a:off x="611280" y="1125360"/>
            <a:ext cx="8045280" cy="6000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Evaluation of Lyme disease serologic tests used in France in 2013</a:t>
            </a:r>
            <a:endParaRPr b="1" lang="en-US" sz="24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Recommendations of 90% specificity for ELISA and 95% for Western blot (with the current methods of calibration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bfbfb"/>
                </a:solidFill>
                <a:latin typeface="Arial"/>
              </a:rPr>
              <a:t>Correct tests :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bfbfb"/>
                </a:solidFill>
                <a:latin typeface="Arial"/>
              </a:rPr>
              <a:t>13 / 33 ELISA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bfbfb"/>
                </a:solidFill>
                <a:latin typeface="Arial"/>
              </a:rPr>
              <a:t>9 / 13 Western blot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Cas confirmés de maladie de Lyme à sérologie négative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bfbfb"/>
                </a:solidFill>
                <a:latin typeface="Arial"/>
              </a:rPr>
              <a:t>Fait établi dans la littérature depuis 30 ans </a:t>
            </a:r>
            <a:endParaRPr b="0" lang="en-US" sz="36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bfbfb"/>
                </a:solidFill>
                <a:latin typeface="Arial"/>
              </a:rPr>
              <a:t>Y compris dans les journaux médicaux majeurs</a:t>
            </a:r>
            <a:endParaRPr b="0" lang="en-US" sz="36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Ecosse : amélioration de la sensibilité de la sérologie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Mavin J Clin Microbiol 2007 ; Mavin J Clin Pathol 2009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En utilisant pour les tests des souches locales écossaises :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Borrelia burgdorferi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sensu stricto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Borrelia afzelii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Epidémiologie au moment de la Conférence de consensus en France (2006)</a:t>
            </a:r>
            <a:endParaRPr b="1" lang="en-US" sz="2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773360"/>
            <a:ext cx="8534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Lyme (pour 100 000 habitants par an)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228600">
              <a:lnSpc>
                <a:spcPct val="100000"/>
              </a:lnSpc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France :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9,4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Alsace :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86 à 200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228600">
              <a:lnSpc>
                <a:spcPct val="100000"/>
              </a:lnSpc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Allemagne :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37,3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228600">
              <a:lnSpc>
                <a:spcPct val="100000"/>
              </a:lnSpc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Suède :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69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228600">
              <a:lnSpc>
                <a:spcPct val="100000"/>
              </a:lnSpc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Angleterre :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0,32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2" marL="914400" indent="228600">
              <a:lnSpc>
                <a:spcPct val="100000"/>
              </a:lnSpc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USA :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8,2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fbf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Lyme en Europ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ncidence en hausse forte, alors que les tests diagnostiques n’évoluent pa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es médecins y pensent davantag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Une modification écologiqu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14280" y="1981080"/>
            <a:ext cx="2756160" cy="198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435640" y="1981080"/>
            <a:ext cx="2928960" cy="19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1174680" y="4108320"/>
            <a:ext cx="2835360" cy="198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5867280" y="3938760"/>
            <a:ext cx="1970280" cy="291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aim"/>
          <p:cNvPicPr/>
          <p:nvPr/>
        </p:nvPicPr>
        <p:blipFill>
          <a:blip r:embed="rId5"/>
          <a:stretch/>
        </p:blipFill>
        <p:spPr>
          <a:xfrm>
            <a:off x="914400" y="156672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tique6"/>
          <p:cNvPicPr/>
          <p:nvPr/>
        </p:nvPicPr>
        <p:blipFill>
          <a:blip r:embed="rId6"/>
          <a:stretch/>
        </p:blipFill>
        <p:spPr>
          <a:xfrm>
            <a:off x="5486400" y="160020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spring"/>
          <p:cNvPicPr/>
          <p:nvPr/>
        </p:nvPicPr>
        <p:blipFill>
          <a:blip r:embed="rId7"/>
          <a:stretch/>
        </p:blipFill>
        <p:spPr>
          <a:xfrm>
            <a:off x="838080" y="4267080"/>
            <a:ext cx="3124440" cy="2194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amp_maine_wood_no3_hi"/>
          <p:cNvPicPr/>
          <p:nvPr/>
        </p:nvPicPr>
        <p:blipFill>
          <a:blip r:embed="rId8"/>
          <a:stretch/>
        </p:blipFill>
        <p:spPr>
          <a:xfrm>
            <a:off x="4343400" y="388620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Incidence de la borréliose de Lyme en France</a:t>
            </a:r>
            <a:br>
              <a:rPr sz="2800"/>
            </a:b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2011</a:t>
            </a:r>
            <a:endParaRPr b="1" lang="en-US" sz="2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bfbfb"/>
                </a:solidFill>
                <a:latin typeface="Arial"/>
              </a:rPr>
              <a:t>43 cas pour 100 000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habitants par an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(contre 9,4 pour 100 000 il y a quelques années)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cidence élevée (&gt; 100 pour 100 000)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Alsace, Meuse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cidence intermédiair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Champagne-Ardennes, Auvergne, Franche-Comté, Limousin, Rhône-Alpe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cidence basse (&lt; 50 pour 100 000)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Centre, Basse Normandie, Aquitaine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Incidence of Lyme borreliosis in Europe</a:t>
            </a:r>
            <a:br>
              <a:rPr sz="3200"/>
            </a:b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2010 </a:t>
            </a: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Rizzoli et al. Eurosurveillance 2011, 16</a:t>
            </a:r>
            <a:endParaRPr b="1" lang="en-US" sz="1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88928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Accurate description impossibl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No plan to monitor at the European level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Non standardized case criteria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Uncoordinated systems of data collection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Clinically diagnosed cases (including erythema migrans) under or not reported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Criteria for serologies not standardized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Great heterogeneity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Incidence of Lyme borreliosis in Europe</a:t>
            </a:r>
            <a:br>
              <a:rPr sz="3200"/>
            </a:b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2010 </a:t>
            </a: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Rizzoli et al. Eurosurveillance 2011, 16</a:t>
            </a:r>
            <a:endParaRPr b="1" lang="en-US" sz="1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188928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Incidence ranges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from 1 case per 100 000 inhabitants per year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to 350 per 100 000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Some hotspots &gt; 100 per 100 000 :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Slovenia, Germany, Austria, Baltic coastline of Southern Sweden, Estonian and Finish island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2011 : les CDC d’Atlanta revoient les définitions de cas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989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e Western blot peut suffire +++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6ffc6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c6ffc6"/>
                </a:solidFill>
                <a:latin typeface="Arial"/>
              </a:rPr>
              <a:t>IDSA, EUCALB, Centre national de référence de Strasbourg, Assurance maladie : exigent toujours l’ELISA positif !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ossibilité de déclarer des cas certains mais aussi des cas probables (critères cliniques) </a:t>
            </a:r>
            <a:r>
              <a:rPr b="0" lang="fr-FR" sz="3200" spc="-1" strike="noStrike">
                <a:solidFill>
                  <a:srgbClr val="c6ffc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Maladie de Lym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Décrite il y a plus de 30 ans dans le Nord-Est des USA comme une maladie nouvelle régional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Réellement nouvelle ?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Réellement rare ?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Toujours  régionale ?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Août 2013. CDC d’Atlanta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Le Lyme est reconnu 10 fois plus fréquent aux USA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300 000 cas par an 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Contre 30 000 cas par an au cours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des 10 années précédente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« Lyme disease = a tremendous public health problem in the United States »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Impasse diagnostiqu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De très nombreux malades ne sont pas pris en considération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Faut-il attendre le suicide et l’autopsie ?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Acceptation du concept de Lyme séro-négatif par les cliniciens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Variable selon les spécialité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Beaucoup de médecins convaincus qu’il y a beaucoup plus de « faux positifs » (donc de « faux malades ») que de « faux négatifs »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Rhumatologie : presque jamais de cas séronégatifs reconnus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06800" indent="-4068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Neurologie : accepté pour les formes aiguës sévères (traitement antibiotique d’épreuve)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Maladie Lyme-like au Brésil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Maganvoni et al.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Signes et symptômes identiqu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Bactérie spiralée au microscope à fond noir (culture impossible)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Non identifiée à ce jour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Sérologie Lyme toujours négativ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228600" y="533520"/>
          <a:ext cx="8686800" cy="55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868680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8188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Espèces de </a:t>
            </a:r>
            <a:r>
              <a:rPr b="1" i="1" lang="fr-FR" sz="2800" spc="-1" strike="noStrike">
                <a:solidFill>
                  <a:srgbClr val="f6ee46"/>
                </a:solidFill>
                <a:latin typeface="Arial"/>
              </a:rPr>
              <a:t>Borrelia</a:t>
            </a: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 responsables de maladies de Lyme ou Lyme-like</a:t>
            </a:r>
            <a:endParaRPr b="1" lang="en-US" sz="2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12682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Borrelia burgdorferi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ensu lato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00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bfbfb"/>
                </a:solidFill>
                <a:latin typeface="Arial"/>
              </a:rPr>
              <a:t>Borrelia burgdorferi 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sensu stricto   </a:t>
            </a: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(Amérique du Nord, Afrique du 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(diversité génétique)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bfbfb"/>
                </a:solidFill>
                <a:latin typeface="Arial"/>
              </a:rPr>
              <a:t>Nord, Europe, Asie)</a:t>
            </a:r>
            <a:endParaRPr b="0" lang="en-US" sz="16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00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bfbfb"/>
                </a:solidFill>
                <a:latin typeface="Arial"/>
              </a:rPr>
              <a:t>B. afzelii</a:t>
            </a:r>
            <a:endParaRPr b="0" lang="en-US" sz="16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00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bfbfb"/>
                </a:solidFill>
                <a:latin typeface="Arial"/>
              </a:rPr>
              <a:t>B. garinii 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(plusieurs sérotypes)</a:t>
            </a:r>
            <a:endParaRPr b="0" lang="en-US" sz="16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00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bfbfb"/>
                </a:solidFill>
                <a:latin typeface="Arial"/>
              </a:rPr>
              <a:t>B. bavariensis  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(ex </a:t>
            </a:r>
            <a:r>
              <a:rPr b="1" i="1" lang="fr-FR" sz="1600" spc="-1" strike="noStrike">
                <a:solidFill>
                  <a:srgbClr val="fbfbfb"/>
                </a:solidFill>
                <a:latin typeface="Arial"/>
              </a:rPr>
              <a:t>B. garinii </a:t>
            </a: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OspA serotype 4)</a:t>
            </a:r>
            <a:endParaRPr b="0" lang="en-US" sz="16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Borrelia lonestari </a:t>
            </a:r>
            <a:r>
              <a:rPr b="0" i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(Amérique du Nord)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Borrelia miyamotoi  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(Asie, Europe, Amérique du Nord)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Aussi responsable de fièvres récurrentes</a:t>
            </a:r>
            <a:endParaRPr b="0" lang="en-US" sz="1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pirochète non identifié</a:t>
            </a:r>
            <a:r>
              <a:rPr b="1" lang="fr-FR" sz="24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(Brésil) Microscope à fond noir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Autres espèces de </a:t>
            </a:r>
            <a:r>
              <a:rPr b="1" i="1" lang="fr-FR" sz="3200" spc="-1" strike="noStrike">
                <a:solidFill>
                  <a:srgbClr val="f6ee46"/>
                </a:solidFill>
                <a:latin typeface="Arial"/>
              </a:rPr>
              <a:t>Borrelia</a:t>
            </a: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 appartenant au complexe </a:t>
            </a:r>
            <a:r>
              <a:rPr b="1" i="1" lang="fr-FR" sz="3200" spc="-1" strike="noStrike">
                <a:solidFill>
                  <a:srgbClr val="f6ee46"/>
                </a:solidFill>
                <a:latin typeface="Arial"/>
              </a:rPr>
              <a:t>B. burdorferi </a:t>
            </a: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sensu lato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1889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Pathogénicité inconnue au faiblement documenté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B. japonica,  B. sinica,  B. lusitaniae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(vascularite ?),            </a:t>
            </a: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B. carolinensis,  B. turdi,  B. tanukii,  B. californiensis,              B. yangtze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Isolées occasionnellement chez des malades symptomatiques (Lyme-like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bfbfb"/>
                </a:solidFill>
                <a:latin typeface="Arial"/>
              </a:rPr>
              <a:t>B. spilmanii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(cutané), </a:t>
            </a:r>
            <a:r>
              <a:rPr b="0" i="1" lang="fr-FR" sz="2400" spc="-1" strike="noStrike">
                <a:solidFill>
                  <a:srgbClr val="fbfbfb"/>
                </a:solidFill>
                <a:latin typeface="Arial"/>
              </a:rPr>
              <a:t>B. andersonii, B. bisettii, B.valaisiana, B. kurtenbachii, B. americana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Co-infections </a:t>
            </a:r>
            <a:br>
              <a:rPr sz="3600"/>
            </a:b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après piqûres de tique</a:t>
            </a: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1700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Wormser N Engl J Med 2006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Lyme précoce aux USA : 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00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2 à 12% des patients ont aussi une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anaplasmose granulocytair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00"/>
              </a:spcBef>
              <a:buClr>
                <a:srgbClr val="f6ee4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2 à 40% des patients ont aussi une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babésiose (piroplasmose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822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Autres infections humaines transmises par les tiques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360" y="112500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Parasite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Babesia divergens, B. microti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Bactérie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Ehrlichia chaffeensis (USA)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Anaplasma phagocytophilum (Europe)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Rickettsia sp.,   Coxiella burnetii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Francisella tularensis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00"/>
                </a:solidFill>
                <a:latin typeface="Arial"/>
              </a:rPr>
              <a:t>Candidatus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Neoehrlichia mikurensi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Viru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Plusieurs </a:t>
            </a: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Flaviviridae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 (incluant le virus de l’encéphalite à tiques)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Bunyaviridae (Fièvre hémorragique Crimée-Congo)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6ee46"/>
                </a:solidFill>
                <a:latin typeface="Arial"/>
              </a:rPr>
              <a:t>Borrelia</a:t>
            </a: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 sp. et autres microbes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Nouvelles générations de PCR (amplification génique)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Nouvelles techniques génomiques de séquençage à haut débit, pyroséquençag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Ötzi, l’homme congelé du Tyrol, agé de 5 300 ans, </a:t>
            </a:r>
            <a:br>
              <a:rPr sz="2400"/>
            </a:b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probablement corse, </a:t>
            </a:r>
            <a:br>
              <a:rPr sz="2400"/>
            </a:br>
            <a:r>
              <a:rPr b="1" lang="fr-FR" sz="2400" spc="-1" strike="noStrike">
                <a:solidFill>
                  <a:srgbClr val="f6ee46"/>
                </a:solidFill>
                <a:latin typeface="Arial"/>
              </a:rPr>
              <a:t>avait la maladie de Lyme</a:t>
            </a:r>
            <a:endParaRPr b="1" lang="en-US" sz="2400" spc="-1" strike="noStrike">
              <a:solidFill>
                <a:srgbClr val="f6ee46"/>
              </a:solidFill>
              <a:latin typeface="Arial"/>
            </a:endParaRPr>
          </a:p>
        </p:txBody>
      </p:sp>
      <p:pic>
        <p:nvPicPr>
          <p:cNvPr id="51" name="Espace réservé du contenu 3" descr="http://www.lequotidiendumedecin.fr/sites/lequotidiendumedecin.fr/files/imagecache/article_thumbnail_215/images/1331236948330865_IMG_79253_HR.jpg"/>
          <p:cNvPicPr/>
          <p:nvPr/>
        </p:nvPicPr>
        <p:blipFill>
          <a:blip r:embed="rId1"/>
          <a:stretch/>
        </p:blipFill>
        <p:spPr>
          <a:xfrm>
            <a:off x="6300720" y="2509920"/>
            <a:ext cx="2374920" cy="3024000"/>
          </a:xfrm>
          <a:prstGeom prst="rect">
            <a:avLst/>
          </a:prstGeom>
          <a:ln w="0">
            <a:noFill/>
          </a:ln>
        </p:spPr>
      </p:pic>
      <p:pic>
        <p:nvPicPr>
          <p:cNvPr id="52" name="Image 4" descr="http://www.lequotidiendumedecin.fr/sites/lequotidiendumedecin.fr/files/imagecache/article_thumbnail_215/images/1331236951330875_IMG_79255_HR.jpg"/>
          <p:cNvPicPr/>
          <p:nvPr/>
        </p:nvPicPr>
        <p:blipFill>
          <a:blip r:embed="rId2"/>
          <a:stretch/>
        </p:blipFill>
        <p:spPr>
          <a:xfrm>
            <a:off x="3132000" y="274464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Image 5" descr="http://www.lequotidiendumedecin.fr/sites/lequotidiendumedecin.fr/files/imagecache/article_thumbnail_215/images/1331236949330871_IMG_79256_HR.jpg"/>
          <p:cNvPicPr/>
          <p:nvPr/>
        </p:nvPicPr>
        <p:blipFill>
          <a:blip r:embed="rId3"/>
          <a:stretch/>
        </p:blipFill>
        <p:spPr>
          <a:xfrm>
            <a:off x="390600" y="2492280"/>
            <a:ext cx="252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PCR </a:t>
            </a: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(amplification génique) </a:t>
            </a: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améliorée</a:t>
            </a:r>
            <a:br>
              <a:rPr sz="4000"/>
            </a:b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Lee et al. Int J Med Sci 2014, 15</a:t>
            </a:r>
            <a:endParaRPr b="1" lang="en-US" sz="1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Milford Hospital, Connecticut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CR « appropriée »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aires d’amorces spécifiques de gèn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Détecterait tous les spirochètes pathogèn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répare des matrices pour le séquençage d’ADN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Improved PCR, methodology </a:t>
            </a:r>
            <a:br>
              <a:rPr sz="4000"/>
            </a:br>
            <a:r>
              <a:rPr b="1" lang="fr-FR" sz="2000" spc="-1" strike="noStrike">
                <a:solidFill>
                  <a:srgbClr val="fbfbfb"/>
                </a:solidFill>
                <a:latin typeface="Arial"/>
              </a:rPr>
              <a:t>Lee et al. Int J Med Sci 2014, 15</a:t>
            </a:r>
            <a:endParaRPr b="1" lang="en-US" sz="2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52 blind-coded sera from the CDC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32 from clinically suspect cases of Lyme disease according to the 2011 CDC criteria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20 pre-treatment sampl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12 post-antibiotic treatment sampl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20 from control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Improved PCR</a:t>
            </a:r>
            <a:br>
              <a:rPr sz="4000"/>
            </a:br>
            <a:r>
              <a:rPr b="1" lang="fr-FR" sz="2000" spc="-1" strike="noStrike">
                <a:solidFill>
                  <a:srgbClr val="fbfbfb"/>
                </a:solidFill>
                <a:latin typeface="Arial"/>
              </a:rPr>
              <a:t>Lee et al. Int J Med Sci 2014, 15</a:t>
            </a:r>
            <a:endParaRPr b="1" lang="en-US" sz="2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360" y="1844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Of the 20 pre-treatment sera :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solation of </a:t>
            </a: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B. burgdorferi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n 2 cases </a:t>
            </a: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(one seronegative by the 2 tier-test)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solation of </a:t>
            </a: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B. miyamotoi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n 1 case </a:t>
            </a:r>
            <a:r>
              <a:rPr b="0" lang="fr-FR" sz="2400" spc="-1" strike="noStrike">
                <a:solidFill>
                  <a:srgbClr val="fbfbfb"/>
                </a:solidFill>
                <a:latin typeface="Arial"/>
              </a:rPr>
              <a:t>(seronegative) </a:t>
            </a:r>
            <a:endParaRPr b="0" lang="en-US" sz="24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Of the 12 post-treatment sera :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isolation of a novel </a:t>
            </a:r>
            <a:r>
              <a:rPr b="0" i="1" lang="fr-FR" sz="3200" spc="-1" strike="noStrike">
                <a:solidFill>
                  <a:srgbClr val="fbfbfb"/>
                </a:solidFill>
                <a:latin typeface="Arial"/>
              </a:rPr>
              <a:t>Borrelia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 sp. in one cas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Of the 20 controls : </a:t>
            </a: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no isolation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Improved PCR </a:t>
            </a:r>
            <a:br>
              <a:rPr sz="4000"/>
            </a:br>
            <a:r>
              <a:rPr b="1" lang="fr-FR" sz="1600" spc="-1" strike="noStrike">
                <a:solidFill>
                  <a:srgbClr val="fbfbfb"/>
                </a:solidFill>
                <a:latin typeface="Arial"/>
              </a:rPr>
              <a:t>Lee et al. Int J Med Sci 2014, 15</a:t>
            </a:r>
            <a:endParaRPr b="1" lang="en-US" sz="1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280" y="1483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Arial"/>
              </a:rPr>
              <a:t>Borrelia burgdorferi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(possibly sero-negative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Arial"/>
              </a:rPr>
              <a:t>Borrelia miyamotoi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(sero-negative for Lyme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A novel </a:t>
            </a:r>
            <a:r>
              <a:rPr b="1" i="1" lang="fr-FR" sz="2800" spc="-1" strike="noStrike">
                <a:solidFill>
                  <a:srgbClr val="ffff00"/>
                </a:solidFill>
                <a:latin typeface="Arial"/>
              </a:rPr>
              <a:t>Borrelia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(not yet named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Close to </a:t>
            </a: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Borrelia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 responsible of relapsing fever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Isolated from a post-treatment serum of a patient with clinical neuroborreliosis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Common epitopes with </a:t>
            </a:r>
            <a:r>
              <a:rPr b="0" i="1" lang="fr-FR" sz="2000" spc="-1" strike="noStrike">
                <a:solidFill>
                  <a:srgbClr val="fbfbfb"/>
                </a:solidFill>
                <a:latin typeface="Arial"/>
              </a:rPr>
              <a:t>B. burgdorferi 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(could cross-react in serology ?)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bfbfb"/>
                </a:solidFill>
                <a:latin typeface="Arial"/>
              </a:rPr>
              <a:t>More resistant to antibiotics ?</a:t>
            </a:r>
            <a:endParaRPr b="0" lang="en-US" sz="20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Techniques microbiologiques innovantes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es vétérinaires ont une longueur d’avance ….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381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High throughput sequencing</a:t>
            </a:r>
            <a:br>
              <a:rPr sz="2800"/>
            </a:br>
            <a:r>
              <a:rPr b="1" lang="fr-FR" sz="2800" spc="-1" strike="noStrike">
                <a:solidFill>
                  <a:srgbClr val="f6ee46"/>
                </a:solidFill>
                <a:latin typeface="Arial"/>
              </a:rPr>
              <a:t>reveals unexpected bacteria in French ticks (Alsace)</a:t>
            </a:r>
            <a:br>
              <a:rPr sz="2800"/>
            </a:br>
            <a:r>
              <a:rPr b="0" lang="fr-FR" sz="1800" spc="-1" strike="noStrike">
                <a:solidFill>
                  <a:srgbClr val="fbfbfb"/>
                </a:solidFill>
                <a:latin typeface="Arial"/>
              </a:rPr>
              <a:t>Vayssier-Taussat et al. PLOS One 2013, 8</a:t>
            </a:r>
            <a:endParaRPr b="1" lang="en-US" sz="18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53800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Anaplasma phagocytophilum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Bartonella henselae,  B. grahamii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Borrelia afzelii,  B. burgdorferi,  B. miyamotoi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Candidatus </a:t>
            </a:r>
            <a:r>
              <a:rPr b="0" lang="fr-FR" sz="2800" spc="-1" strike="noStrike">
                <a:solidFill>
                  <a:srgbClr val="fbfbfb"/>
                </a:solidFill>
                <a:latin typeface="Arial"/>
              </a:rPr>
              <a:t>Neoehrlichia mikurensi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Ehrlichia cani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bfbfb"/>
                </a:solidFill>
                <a:latin typeface="Arial"/>
              </a:rPr>
              <a:t>Rickettsia canadensis,  R. felis,  R. helvetica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381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6ee46"/>
                </a:solidFill>
                <a:latin typeface="Arial"/>
              </a:rPr>
              <a:t>Séquençage à haut débit</a:t>
            </a:r>
            <a:br>
              <a:rPr sz="3600"/>
            </a:br>
            <a:endParaRPr b="1" lang="en-US" sz="36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4360" y="252864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Devrait pouvoir être utilisé pour les prélèvements humains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Arial"/>
              </a:rPr>
              <a:t>Absence de financement !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Messages de prévention pour les amoureux de la nature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00"/>
                </a:solidFill>
                <a:latin typeface="Arial"/>
              </a:rPr>
              <a:t>Tiqu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00"/>
                </a:solidFill>
                <a:latin typeface="Arial"/>
              </a:rPr>
              <a:t>Erythème migrant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Forêts (panneaux d’information)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rofessions à risqu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Sportifs, scouts, randonneur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ropriétaires d’animaux domestique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1" descr=""/>
          <p:cNvPicPr/>
          <p:nvPr/>
        </p:nvPicPr>
        <p:blipFill>
          <a:blip r:embed="rId1"/>
          <a:srcRect l="23970" t="27332" r="24177" b="25309"/>
          <a:stretch/>
        </p:blipFill>
        <p:spPr>
          <a:xfrm>
            <a:off x="782640" y="404640"/>
            <a:ext cx="7650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Difficultés pour le clinicien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a piqûre de tique n’est établie que dans 30% des cas, ou ancienn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’érythème migrant est souvent absent (1/4 des cas), méconnu ou non diagnostiqué en tant que tel 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Erythème migrant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pic>
        <p:nvPicPr>
          <p:cNvPr id="57" name="Picture 3" descr="diapo14_02_16"/>
          <p:cNvPicPr/>
          <p:nvPr/>
        </p:nvPicPr>
        <p:blipFill>
          <a:blip r:embed="rId1"/>
          <a:stretch/>
        </p:blipFill>
        <p:spPr>
          <a:xfrm>
            <a:off x="338040" y="1219320"/>
            <a:ext cx="8352000" cy="5287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Jan14^11"/>
          <p:cNvPicPr/>
          <p:nvPr/>
        </p:nvPicPr>
        <p:blipFill>
          <a:blip r:embed="rId1"/>
          <a:stretch/>
        </p:blipFill>
        <p:spPr>
          <a:xfrm>
            <a:off x="4038480" y="228600"/>
            <a:ext cx="424980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79280" y="692280"/>
            <a:ext cx="3619440" cy="3443040"/>
          </a:xfrm>
          <a:prstGeom prst="rect">
            <a:avLst/>
          </a:prstGeom>
          <a:solidFill>
            <a:srgbClr val="ed7c0b"/>
          </a:solidFill>
          <a:ln w="9360">
            <a:solidFill>
              <a:srgbClr val="fbf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Acrodermatit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chronique 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atrophiante (ACA)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= Syndrome 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de Pick – Herxheimer :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Caractéristiqu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bfbfb"/>
                </a:solidFill>
                <a:latin typeface="Times New Roman"/>
              </a:rPr>
              <a:t>du Lyme</a:t>
            </a:r>
            <a:endParaRPr b="0" lang="en-US" sz="28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6ee46"/>
                </a:solidFill>
                <a:latin typeface="Arial"/>
              </a:rPr>
              <a:t>Aspects cliniques de la maladie de Lyme</a:t>
            </a:r>
            <a:endParaRPr b="1" lang="en-US" sz="32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98864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Peut tout simuler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a « Grande simulatrice » comme l’était la syphili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6ee46"/>
                </a:solidFill>
                <a:latin typeface="Arial"/>
              </a:rPr>
              <a:t>Maladie de Lyme</a:t>
            </a:r>
            <a:endParaRPr b="1" lang="en-US" sz="4000" spc="-1" strike="noStrike">
              <a:solidFill>
                <a:srgbClr val="f6ee4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Le diagnostic repose essentiellement sur la sérologi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6ee4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Conséquences :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Malades sous-diagnostiqués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bfbfb"/>
                </a:solidFill>
                <a:latin typeface="Arial"/>
              </a:rPr>
              <a:t>Epidémiologie sous-estimée</a:t>
            </a: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  <a:p>
            <a:pPr lvl="1" marL="1028880" indent="-457200">
              <a:spcBef>
                <a:spcPts val="799"/>
              </a:spcBef>
              <a:buClr>
                <a:srgbClr val="f6ee4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fb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7T19:24:37Z</dcterms:created>
  <dc:creator>Ch Perronne</dc:creator>
  <dc:description/>
  <dc:language>en-US</dc:language>
  <cp:lastModifiedBy>Laurens</cp:lastModifiedBy>
  <cp:lastPrinted>2002-07-02T02:58:02Z</cp:lastPrinted>
  <dcterms:modified xsi:type="dcterms:W3CDTF">2014-04-30T12:16:06Z</dcterms:modified>
  <cp:revision>1829</cp:revision>
  <dc:subject/>
  <dc:title>Lyme</dc:title>
</cp:coreProperties>
</file>