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E617-4553-4FA6-87A2-022D36ACB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17CC-47E0-4378-A9F5-58A544C0176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83F-D5C2-4A34-87DB-4C357570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B3E-01B2-4EC5-91A8-01A30D93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E98-6023-4262-B077-3F4D389B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D32-325E-4640-A20F-B932FCD5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528-BD31-4445-AAA7-C5A677B5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1FE-CD6B-4B68-886E-283C91EE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B03-9A51-4A99-9B31-582A6C5B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7FA-1BD3-4122-A7CE-8B30E588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446-B395-434E-B60B-0960315D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BA8-5C35-4B34-B4A5-A2B20499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EAF-C53C-4645-B298-FB85250A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E85-76AB-4E3C-8FDC-67ECB9C3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F2A2-CC3D-43F9-A96D-D6473CE743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d1d1cb"/>
                </a:solidFill>
                <a:latin typeface="Arial Black"/>
              </a:rPr>
              <a:t>LATE STAGE LYME DISEAS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208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Kenny L. De Meirleir, internal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Emeritus Gewoon Hoogleraar V.U.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linical Professor of Pathology, University of Nevada, Reno, U.S.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Medical Director Himmunitas VZW (Brussels) &amp; WPI, University of Nevada, Reno, Nevada, U.S.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85160" y="802440"/>
            <a:ext cx="638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Box plots ( line in box is median and size box is interquartile range : 50 % of centrally located poin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576440" y="1297080"/>
            <a:ext cx="5991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258920" y="604800"/>
            <a:ext cx="6337440" cy="5078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228600" y="-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332000" y="676440"/>
            <a:ext cx="684036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65560" y="836280"/>
            <a:ext cx="617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Non-parametric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Mann – Whitney test performed for two independent groups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616360" cy="4574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5941800"/>
            <a:ext cx="929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 : for all three variables : MW is significant with p-value &lt; 0.0009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all three increased medians for CFS grou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430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00000" y="469800"/>
            <a:ext cx="7272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81080" y="795240"/>
            <a:ext cx="698184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571680" y="4287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Verdana"/>
              </a:rPr>
              <a:t>Regulation of</a:t>
            </a:r>
            <a:r>
              <a:rPr b="1" lang="nl-BE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</a:rPr>
              <a:t>T-cell i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Straight Connector 10"/>
          <p:cNvSpPr/>
          <p:nvPr/>
        </p:nvSpPr>
        <p:spPr>
          <a:xfrm>
            <a:off x="214200" y="1143000"/>
            <a:ext cx="878688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27"/>
          <p:cNvSpPr/>
          <p:nvPr/>
        </p:nvSpPr>
        <p:spPr>
          <a:xfrm>
            <a:off x="1596960" y="31431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5400000"/>
          </a:gradFill>
          <a:ln w="255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Tahoma"/>
                <a:ea typeface="Tahoma"/>
              </a:rPr>
              <a:t>Naïve T cel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al 31"/>
          <p:cNvSpPr/>
          <p:nvPr/>
        </p:nvSpPr>
        <p:spPr>
          <a:xfrm>
            <a:off x="3701880" y="150012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183457"/>
              </a:gs>
              <a:gs pos="100000">
                <a:srgbClr val="306099"/>
              </a:gs>
            </a:gsLst>
            <a:lin ang="8100000"/>
          </a:gradFill>
          <a:ln w="255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1" lang="fr-BE" sz="1200" spc="-1" strike="noStrike">
                <a:solidFill>
                  <a:srgbClr val="ffffff"/>
                </a:solidFill>
                <a:latin typeface="Tahoma"/>
                <a:ea typeface="Tahoma"/>
              </a:rPr>
              <a:t>H</a:t>
            </a:r>
            <a:r>
              <a:rPr b="1" lang="fr-BE" sz="16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Tahoma"/>
                <a:ea typeface="Tahoma"/>
              </a:rPr>
              <a:t>ce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ight Arrow 32"/>
          <p:cNvSpPr/>
          <p:nvPr/>
        </p:nvSpPr>
        <p:spPr>
          <a:xfrm rot="19461000">
            <a:off x="2538360" y="2757600"/>
            <a:ext cx="1071720" cy="1429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7f7f7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33"/>
          <p:cNvSpPr/>
          <p:nvPr/>
        </p:nvSpPr>
        <p:spPr>
          <a:xfrm>
            <a:off x="4749840" y="321480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57502a"/>
              </a:gs>
              <a:gs pos="100000">
                <a:srgbClr val="998d4f"/>
              </a:gs>
            </a:gsLst>
            <a:lin ang="5400000"/>
          </a:gradFill>
          <a:ln w="25560">
            <a:solidFill>
              <a:srgbClr val="4a452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1" lang="fr-BE" sz="1200" spc="-1" strike="noStrike">
                <a:solidFill>
                  <a:srgbClr val="ffffff"/>
                </a:solidFill>
                <a:latin typeface="Tahoma"/>
                <a:ea typeface="Tahoma"/>
              </a:rPr>
              <a:t>H</a:t>
            </a:r>
            <a:r>
              <a:rPr b="1" lang="fr-BE" sz="16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Tahoma"/>
                <a:ea typeface="Tahoma"/>
              </a:rPr>
              <a:t>ce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34"/>
          <p:cNvSpPr/>
          <p:nvPr/>
        </p:nvSpPr>
        <p:spPr>
          <a:xfrm>
            <a:off x="3749760" y="50007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2b3810"/>
              </a:gs>
              <a:gs pos="100000">
                <a:srgbClr val="516624"/>
              </a:gs>
            </a:gsLst>
            <a:lin ang="5400000"/>
          </a:gradFill>
          <a:ln w="25560">
            <a:solidFill>
              <a:srgbClr val="0033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Tahoma"/>
                <a:ea typeface="Tahoma"/>
              </a:rPr>
              <a:t>T</a:t>
            </a:r>
            <a:r>
              <a:rPr b="1" lang="fr-BE" sz="1200" spc="-1" strike="noStrike">
                <a:solidFill>
                  <a:srgbClr val="ffffff"/>
                </a:solidFill>
                <a:latin typeface="Tahoma"/>
                <a:ea typeface="Tahoma"/>
              </a:rPr>
              <a:t>H</a:t>
            </a:r>
            <a:r>
              <a:rPr b="1" lang="fr-BE" sz="1600" spc="-1" strike="noStrike">
                <a:solidFill>
                  <a:srgbClr val="ffffff"/>
                </a:solidFill>
                <a:latin typeface="Tahoma"/>
                <a:ea typeface="Tahoma"/>
              </a:rPr>
              <a:t>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Tahoma"/>
                <a:ea typeface="Tahoma"/>
              </a:rPr>
              <a:t>ce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Arrow 35"/>
          <p:cNvSpPr/>
          <p:nvPr/>
        </p:nvSpPr>
        <p:spPr>
          <a:xfrm>
            <a:off x="2882880" y="3714840"/>
            <a:ext cx="124776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7f7f7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ight Arrow 36"/>
          <p:cNvSpPr/>
          <p:nvPr/>
        </p:nvSpPr>
        <p:spPr>
          <a:xfrm rot="2060400">
            <a:off x="2576160" y="4567320"/>
            <a:ext cx="1071720" cy="1429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7f7f7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7"/>
          <p:cNvSpPr/>
          <p:nvPr/>
        </p:nvSpPr>
        <p:spPr>
          <a:xfrm>
            <a:off x="4979160" y="1571760"/>
            <a:ext cx="211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ahoma"/>
              </a:rPr>
              <a:t>Protection again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ahoma"/>
              </a:rPr>
              <a:t>intracellular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ahoma"/>
              </a:rPr>
              <a:t>(viruses, bacteri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Excess: hypersensi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38"/>
          <p:cNvSpPr/>
          <p:nvPr/>
        </p:nvSpPr>
        <p:spPr>
          <a:xfrm>
            <a:off x="6087960" y="3286080"/>
            <a:ext cx="187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ahoma"/>
              </a:rPr>
              <a:t>Protection again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ahoma"/>
              </a:rPr>
              <a:t>extracellular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ahoma"/>
              </a:rPr>
              <a:t>(parasites, bacteri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Excess: allerg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39"/>
          <p:cNvSpPr/>
          <p:nvPr/>
        </p:nvSpPr>
        <p:spPr>
          <a:xfrm>
            <a:off x="5146560" y="5072040"/>
            <a:ext cx="2983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ahoma"/>
              </a:rPr>
              <a:t>Local i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ahoma"/>
              </a:rPr>
              <a:t>(mucosa, sk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ahoma"/>
              </a:rPr>
              <a:t>Protection again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ahoma"/>
              </a:rPr>
              <a:t>fungi,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Excess: autoimmunity, inflam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40"/>
          <p:cNvSpPr/>
          <p:nvPr/>
        </p:nvSpPr>
        <p:spPr>
          <a:xfrm>
            <a:off x="2527920" y="2544840"/>
            <a:ext cx="50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ffffff"/>
                </a:solidFill>
                <a:latin typeface="Tahoma"/>
              </a:rPr>
              <a:t>IL-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41"/>
          <p:cNvSpPr/>
          <p:nvPr/>
        </p:nvSpPr>
        <p:spPr>
          <a:xfrm>
            <a:off x="2121840" y="470700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ffffff"/>
                </a:solidFill>
                <a:latin typeface="Tahoma"/>
              </a:rPr>
              <a:t>TGF-</a:t>
            </a:r>
            <a:r>
              <a:rPr b="0" lang="fr-BE" sz="11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fr-BE" sz="1100" spc="-1" strike="noStrike">
                <a:solidFill>
                  <a:srgbClr val="ffffff"/>
                </a:solidFill>
                <a:latin typeface="Tahoma"/>
              </a:rPr>
              <a:t> + IL-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42"/>
          <p:cNvSpPr/>
          <p:nvPr/>
        </p:nvSpPr>
        <p:spPr>
          <a:xfrm>
            <a:off x="3269880" y="3429000"/>
            <a:ext cx="42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ffffff"/>
                </a:solidFill>
                <a:latin typeface="Tahoma"/>
              </a:rPr>
              <a:t>IL-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43"/>
          <p:cNvSpPr/>
          <p:nvPr/>
        </p:nvSpPr>
        <p:spPr>
          <a:xfrm>
            <a:off x="4231080" y="288144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ffffff"/>
                </a:solidFill>
                <a:latin typeface="Tahoma"/>
              </a:rPr>
              <a:t>IFN-</a:t>
            </a:r>
            <a:r>
              <a:rPr b="0" lang="fr-BE" sz="11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Straight Connector 45"/>
          <p:cNvSpPr/>
          <p:nvPr/>
        </p:nvSpPr>
        <p:spPr>
          <a:xfrm>
            <a:off x="4240080" y="2786040"/>
            <a:ext cx="0" cy="1857240"/>
          </a:xfrm>
          <a:prstGeom prst="line">
            <a:avLst/>
          </a:prstGeom>
          <a:ln w="28440">
            <a:solidFill>
              <a:srgbClr val="325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traight Connector 46"/>
          <p:cNvSpPr/>
          <p:nvPr/>
        </p:nvSpPr>
        <p:spPr>
          <a:xfrm>
            <a:off x="4558680" y="2714760"/>
            <a:ext cx="214200" cy="357120"/>
          </a:xfrm>
          <a:prstGeom prst="line">
            <a:avLst/>
          </a:prstGeom>
          <a:ln w="28440">
            <a:solidFill>
              <a:srgbClr val="325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traight Connector 49"/>
          <p:cNvSpPr/>
          <p:nvPr/>
        </p:nvSpPr>
        <p:spPr>
          <a:xfrm flipV="1">
            <a:off x="4692600" y="2999880"/>
            <a:ext cx="223920" cy="142920"/>
          </a:xfrm>
          <a:prstGeom prst="line">
            <a:avLst/>
          </a:prstGeom>
          <a:ln w="28440">
            <a:solidFill>
              <a:srgbClr val="325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Straight Connector 50"/>
          <p:cNvSpPr/>
          <p:nvPr/>
        </p:nvSpPr>
        <p:spPr>
          <a:xfrm>
            <a:off x="4097160" y="4641840"/>
            <a:ext cx="285840" cy="1440"/>
          </a:xfrm>
          <a:prstGeom prst="line">
            <a:avLst/>
          </a:prstGeom>
          <a:ln w="28440">
            <a:solidFill>
              <a:srgbClr val="325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 u="sng">
                <a:solidFill>
                  <a:srgbClr val="d1d1cb"/>
                </a:solidFill>
                <a:uFillTx/>
                <a:latin typeface="Arial"/>
              </a:rPr>
              <a:t>Borrelia: prevent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Reservoir: Rodents / mammals mice / cats / deer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new strategies to control tick-born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Early detection tick-born diseases – G.P.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Screening all pregnant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Screening of blood – blood trans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Recognize Borrelia as a S.O.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Chronic Fatigue Syndrome / M.E. (Fukuda &amp; Canadian criter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+ 95 %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 Late Stage Lyme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Lyme Stage </a:t>
            </a:r>
            <a:r>
              <a:rPr b="0" lang="nl-BE" sz="32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+ 95 %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Borrelia burgdorferi LTT </a:t>
            </a:r>
            <a:r>
              <a:rPr b="0" lang="nl-BE" sz="32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400" spc="-1" strike="noStrike" u="sng">
                <a:solidFill>
                  <a:srgbClr val="d1d1cb"/>
                </a:solidFill>
                <a:uFillTx/>
                <a:latin typeface="Arial"/>
              </a:rPr>
              <a:t>Lyme Stage </a:t>
            </a:r>
            <a:r>
              <a:rPr b="0" lang="nl-BE" sz="3400" spc="-1" strike="noStrike" u="sng">
                <a:solidFill>
                  <a:srgbClr val="d1d1cb"/>
                </a:solidFill>
                <a:uFillTx/>
                <a:latin typeface="Times New Roman"/>
              </a:rPr>
              <a:t>III</a:t>
            </a:r>
            <a:r>
              <a:rPr b="0" lang="nl-BE" sz="3400" spc="-1" strike="noStrike" u="sng">
                <a:solidFill>
                  <a:srgbClr val="d1d1cb"/>
                </a:solidFill>
                <a:uFillTx/>
                <a:latin typeface="Arial"/>
              </a:rPr>
              <a:t> = Late Stage Lyme Disease</a:t>
            </a:r>
            <a:endParaRPr b="0" lang="en-US" sz="3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Multisystem disease with high morbid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Incidence in Belgium: UN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&gt; 100.000 (up to 500.000)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ffffff"/>
                </a:solidFill>
                <a:uFillTx/>
                <a:latin typeface="Arial"/>
              </a:rPr>
              <a:t>Transmission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Blood sucking arthropods (Ixodes Ricinus): ticks, insects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exual transmission between humans (new S.O.A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Mother-fetus trans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Blood trans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ffffff"/>
                </a:solidFill>
                <a:uFillTx/>
                <a:latin typeface="Arial"/>
              </a:rPr>
              <a:t>Co-infections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Bartonella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- Rickett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Babesia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- Tular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hlamydiae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- Parvovirus B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Mycoplasmae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- Yersi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Campylob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400" spc="-1" strike="noStrike" u="sng">
                <a:solidFill>
                  <a:srgbClr val="d1d1cb"/>
                </a:solidFill>
                <a:uFillTx/>
                <a:latin typeface="Arial"/>
              </a:rPr>
              <a:t>Borrelia species – gramnegative bacteria</a:t>
            </a:r>
            <a:endParaRPr b="0" lang="en-US" sz="3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U.S.A.: Borrelia burgdorfer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Europ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Borrelia burgdorfe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Borrelia afzel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Borrelia garin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 u="sng">
                <a:solidFill>
                  <a:srgbClr val="d1d1cb"/>
                </a:solidFill>
                <a:uFillTx/>
                <a:latin typeface="Arial"/>
              </a:rPr>
              <a:t>DIAGNOSTIC TESTS</a:t>
            </a:r>
            <a:endParaRPr b="0" lang="en-US" sz="38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orrelia burgdorferi antibody tests (Elisa, C6 peptide, Western B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stly negative in LS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orrelia PCR t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Arial"/>
              </a:rPr>
              <a:t>Low sensitivity in bl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  <a:ea typeface="Arial"/>
              </a:rPr>
              <a:t>High specificity when combined and confirmed by sequencing (U.L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orrelia burgdorferi LTT*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Indirect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Valuable in LS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LTT accepted by FDA  in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orrelia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ot widely used; still investiga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Microscopic detection of Borrelia spiroche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S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"/>
              </a:rPr>
              <a:t>Vaginal sw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42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Early treatment (&lt; 2 months): no chronic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Late treatment: outcome uncertain – many develop “chronic diseases”: ME/CFS, ALS, MS,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Chronic microglial activation in LSLD – low grade neuroinfla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Markers blo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sCD14 (L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PGE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IL-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Number of CD57+ lymphocytes in the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Other pro-inflammatory cytokines and chemok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No vaccin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 u="sng">
                <a:solidFill>
                  <a:srgbClr val="d1d1cb"/>
                </a:solidFill>
                <a:uFillTx/>
                <a:latin typeface="Arial"/>
              </a:rPr>
              <a:t>Bartonella – gramnegative bacteri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artonella henselae – cat scratch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artonella quintana – trench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31 other species (8 subspecies are known to infect hum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Only commercial antibody tests for Bartonella hensel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PCR with sequencing (only in Belgi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Culture of Bartonella – not approved by FDA yet for clinical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Infects endothelial cells in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Infect red blood cells – 3-4 Bartonella / millions red blood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Cats = reservoir: 1.000.000 Bartonella / million red blood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0040" y="837720"/>
            <a:ext cx="60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ymptoms Bartonella positive vs. Bartonella 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2286000"/>
          <a:ext cx="6705360" cy="3875040"/>
        </p:xfrm>
        <a:graphic>
          <a:graphicData uri="http://schemas.openxmlformats.org/drawingml/2006/table">
            <a:tbl>
              <a:tblPr/>
              <a:tblGrid>
                <a:gridCol w="4190760"/>
                <a:gridCol w="2514600"/>
              </a:tblGrid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YMPTO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arson Chi-Sq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eight ch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xiety - which may include panic attac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motional labiality (mood swing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equent, unusual nightma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fficulty moving your tongue to spea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cohol intole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ash of Herpes Simplex of Shing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t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0" y="518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1143000"/>
          <a:ext cx="914400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08:05:45Z</dcterms:created>
  <dc:creator>irads</dc:creator>
  <dc:description/>
  <dc:language>en-US</dc:language>
  <cp:lastModifiedBy>irads</cp:lastModifiedBy>
  <dcterms:modified xsi:type="dcterms:W3CDTF">2014-04-23T07:51:29Z</dcterms:modified>
  <cp:revision>6</cp:revision>
  <dc:subject/>
  <dc:title>LATE STAGE LYME DISEASE</dc:title>
</cp:coreProperties>
</file>